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3FAD2-0F2C-41F0-B80C-B86A4DC7A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86BC-7F06-41AA-817C-3C1669584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3385A-7137-4D1E-8D3F-AB7DCDDBA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944B6-6086-4903-B36E-29DC789B4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0563-5826-408A-8810-ACCF1204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53558-8FC4-49BB-81D6-1631DB050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B046-70E9-4FB5-BBC8-F42612FC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8F0FE-C659-4663-AAEF-F3C07A3AF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0033D-D045-4725-A77C-AD0936E2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C386-53B8-4BAA-8A85-EBF99645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25300-AB04-48BD-A1D0-C5FA008A4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C9A07-DB80-44CF-983E-1E5CB1201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A4F5-C904-4244-9FEB-8BA83C9E7D3A}"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t eucariote uni- sau pluricelulare din regnul Protista, al căror corp vegeta</a:t>
            </a:r>
            <a:r>
              <a:rPr b="0" lang="en-GB" sz="1200" spc="-1" strike="noStrike">
                <a:solidFill>
                  <a:srgbClr val="000000"/>
                </a:solidFill>
                <a:latin typeface="Arial"/>
              </a:rPr>
              <a:t>tiv</a:t>
            </a:r>
            <a:r>
              <a:rPr b="0"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Content Placeholder 6" descr="Cladophora.jpg"/>
          <p:cNvPicPr/>
          <p:nvPr/>
        </p:nvPicPr>
        <p:blipFill>
          <a:blip r:embed="rId1"/>
          <a:stretch/>
        </p:blipFill>
        <p:spPr>
          <a:xfrm>
            <a:off x="4932360" y="1989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TIC6_col</cp:lastModifiedBy>
  <dcterms:modified xsi:type="dcterms:W3CDTF">2010-03-16T09:58:52Z</dcterms:modified>
  <cp:revision>16</cp:revision>
  <dc:subject/>
  <dc:title>Slide 1</dc:title>
</cp:coreProperties>
</file>